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4BE9-5135-41A1-BF4B-6987217E362E}"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F909-CD55-419C-9EA5-473794A4E7B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7D52F-A251-4224-B061-14FB53EBA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A79B8-7BE5-43CC-95B0-B8569D7FC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6C0C4-5010-46AD-B941-F1F0EE92D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C7F6B-05E1-4368-B480-E711E2D29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589C6-6276-4EE5-A7C2-AB9D1217C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3D21F-A415-4BC4-A7F5-9E54248A7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CDB6A-F20B-4E51-B37B-07DC46083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94A88-1584-49B1-9752-ABCEEEC78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D8ABD-A7B8-4736-AADD-875980185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95A04-ACEF-499B-815D-39EA64A62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167C1-F5BF-42D3-AF37-DD728DAEC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74149-161D-4CE3-B567-D6B0DFA70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646E2-08FF-4119-A615-4F0980F4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4C198-1AE1-46A1-B939-99D0D2FF0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6F51A-2332-457E-90E4-724352906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64DC4-F2C8-4344-82BB-4D9F7D745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66FEC-1D1D-476C-9260-4C820BD70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F41D3A-070F-43FF-8A3D-C0C789B0EE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4C1A74-B2CC-4CF9-9432-E94093A65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B23F03-E3C0-46FD-A50F-CD633576B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D11203-5DD2-45EF-B341-82E02B06C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066906-EE90-4F9C-A1D5-0299BE877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68FD-4465-4290-871A-8FA698ED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50E492-4BB0-4863-91F4-507D0540B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982E07-57D9-413A-B0B9-069497440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0FC433-AC94-44C7-9C16-8DA9BA2B3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FB18BC-E7F1-4EDF-B329-58C8CFC1C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39B7992-8756-48C8-A612-FFABCB4E7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D77DE78-78FE-4AD5-B16A-BB620E0413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C99D20-62D7-435E-9BBB-D02F2879D3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4189A6C-CD37-4E67-8ED0-7642793AC3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1F6FCB9-2D7C-417E-98E9-35AB4D194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0685F7-A5DB-4616-A101-5207AA2E8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CB574-AC5C-4C4F-894D-2B70E703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6943EA-0D87-4507-930F-A91F673C9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9F8F90-FCE2-488B-A7F6-C834F2028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1A2F72-88D9-4A3F-9BD8-1FCA1F60A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432E18-B59C-45EE-9869-F59AAC439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085E32-452D-496E-8C1C-9670F9898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CD2A62-E7E9-430F-A444-70B5A8F7D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09FD7D9-C2BD-4103-AD64-774A69CDB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67A6ECB-8EEB-40D6-B7C7-3AE3B9D8C1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D7C2B1A-ADA3-40C3-BD37-E99D9886D3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BD4864-60DE-491B-8C6B-2273D46C11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E2B2C-EFC5-4501-B8DC-E6B5EDF9A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BD76C0-72D3-4218-9CFA-8D094E783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D14E1A-2E52-44FE-BA41-C61FB4633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4F6EC8-2382-4D9A-9382-F03405CE9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DC6C58-DB03-4DAA-9046-EE414FA46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F277E6-4C4E-4CD9-96B2-6DCD7620A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B71788-C4DB-4714-8FBA-86BB2E883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C9C861-1739-426B-92CC-A0727144D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C70236-2E4B-4E52-96A6-29BF7ED3E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4DDE42-BF99-4B9A-934F-12E676BEFB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95D9CF-3B67-4710-982A-76DAF17ED2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8A084-AB47-49D0-9335-D61A7EFA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D7F4094-FFD1-4486-939D-41748B42D3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DA4851-6039-4BD8-B991-519BF4B610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6C23EE-48CA-4A9F-95E7-700C372385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14878F-8A33-4EAC-A2FA-723A3EF5A1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8D6E4-66EB-415B-B78A-F0543FAEE9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71D76A-FEF3-4049-99E8-93BB25B74C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B7026-1A7B-4140-BDFF-9B2A3B3EED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7C946-67DE-460D-9F27-CBAF9CE87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8E948-BB45-4F51-B72B-08F7C2763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913AF-156A-4848-AC85-DA191D895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6CBD-C5BB-43CF-90F3-6A8447A7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005692-C819-4B6C-B97B-757ABE0E5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A27921-E9AD-462A-920E-4D78BAB1DB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449CF5-3C7B-4365-B915-48FDC30BE7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B8CF186-5D1F-43F4-8BFD-D9C90539A2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8716D3-7935-4A31-88F3-AD80FBA8F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8BF408-EC44-4B20-984E-283B96F269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908DFA-5F84-4B83-9C70-2762289600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E6A487-BF18-4168-873A-E1B5FBFCA6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AD22EE-A5B0-4C8B-B35C-291CEE29AF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465F32-0544-4BA5-B6BD-98352724A2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3B59A-9C86-4992-8895-A7DE55A2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C39D991-7314-4286-9A09-50EDA7514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741BDE-67A2-436D-9E0E-D45BAC784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BFBE724-0D6F-422C-A2FF-8A11E92993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CA86555-4842-44C9-9DBF-0E7C482DDB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005A7F-A24F-460E-98A2-67D6CB3DF1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2B50E0-E63D-4A10-8E2C-56B593014D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3415E-B82E-42A3-869F-21DEEC9C19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1DF0DA-097F-4F70-9BE5-933B54DE47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D584C-42B7-49D9-AFE5-94F889253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64AC47-AF8E-4C0A-BB8B-C9B26F99EB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6F37-0CC0-4969-8749-18F01F55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CC688-C826-4C0C-9CB8-CA6F8E3DD4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D0BDE-104F-4492-86AE-2D0C248B8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16C1B-053C-4652-81FE-845FF65A48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444A0C-1FBD-4AC4-B08D-2884C7165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7E385C-59CF-46A7-B7C6-9B0889214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A7CA53-52E9-4A61-BA7E-73DF3EDB86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05219A-3581-4E76-9338-59A552DD96D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04B8-690B-4C38-9402-15BE1839124A}"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6 - Ορθογώνιο"/>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9 - Ορθογώνιο"/>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0 - Ορθογώνιο"/>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9161-BD1F-4555-B5F2-D15F377C0ABF}" type="slidenum">
              <a:rPr b="1" lang="el-GR" sz="1400" spc="-1" strike="noStrike">
                <a:solidFill>
                  <a:srgbClr val="ebddc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6 - Ορθογώνιο"/>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7 - Ορθογώνιο"/>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8 - Ορθογώνιο"/>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FD7B-6B41-4830-B331-1C05D125B3BE}" type="slidenum">
              <a:rPr b="1" lang="el-GR"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8C60-2B00-4684-9530-47B0498FED49}"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 Ορθογώνιο"/>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 Ορθογώνιο"/>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 Ορθογώνιο"/>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08B4-0B3F-400C-B27E-56247F840D8F}"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56D1-1640-424C-8C9C-725315266EEF}" type="slidenum">
              <a:rPr b="1" lang="el-GR" sz="1400" spc="-1" strike="noStrike">
                <a:solidFill>
                  <a:srgbClr val="775f55"/>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7 - Ορθογώνιο"/>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8 - Ορθογώνιο"/>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9 - Ορθογώνιο"/>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0 - Ορθογώνιο"/>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9FC1-0B7B-4D31-B264-4CA9C2353CC5}" type="slidenum">
              <a:rPr b="1" lang="el-GR"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6 - Ορθογώνιο"/>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7 - Ορθογώνιο"/>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8 - Ορθογώνιο"/>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F6A4-5273-44BC-B4E4-D77201AB587B}"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bddc3"/>
                </a:solidFill>
                <a:latin typeface="Calibri"/>
              </a:rPr>
              <a:t>ΠΡΟΤΑΣΗ ΓΙΑ ΜΙΑ ΠΟΛΙΤΙΣΤΙΚΗ ΔΙΑΔΡΟΜΗ ΑΡΧΑΙΩΝ  ΘΕΑΤΡΩΝ  </a:t>
            </a:r>
            <a:br>
              <a:rPr sz="4000"/>
            </a:br>
            <a:r>
              <a:rPr b="0" lang="el-GR" sz="4000" spc="-1" strike="noStrike">
                <a:solidFill>
                  <a:srgbClr val="ebddc3"/>
                </a:solidFill>
                <a:latin typeface="Calibri"/>
              </a:rPr>
              <a:t>ΣΤΗΝ ΗΠΕΙΡΟ</a:t>
            </a:r>
            <a:endParaRPr b="0" lang="en-US" sz="4000" spc="-1" strike="noStrike">
              <a:solidFill>
                <a:srgbClr val="ebddc3"/>
              </a:solidFill>
              <a:latin typeface="Calibri"/>
            </a:endParaRPr>
          </a:p>
        </p:txBody>
      </p:sp>
      <p:sp>
        <p:nvSpPr>
          <p:cNvPr id="358" name="PlaceHolder 2"/>
          <p:cNvSpPr>
            <a:spLocks noGrp="1"/>
          </p:cNvSpPr>
          <p:nvPr>
            <p:ph type="subTitle"/>
          </p:nvPr>
        </p:nvSpPr>
        <p:spPr>
          <a:xfrm>
            <a:off x="2142720" y="5929200"/>
            <a:ext cx="6705720" cy="9288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alibri"/>
              </a:rPr>
              <a:t>Συμβολή   του ΔΙΑΖΩΜΑΤΟΣ στον  πολιτιστικό τουρισμό</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 </a:t>
            </a:r>
            <a:r>
              <a:rPr b="0" lang="el-GR" sz="4000" spc="-1" strike="noStrike">
                <a:solidFill>
                  <a:srgbClr val="775f55"/>
                </a:solidFill>
                <a:latin typeface="Calibri"/>
              </a:rPr>
              <a:t>Τελικά προτείνουμε στην Περιφέρεια</a:t>
            </a:r>
            <a:endParaRPr b="0" lang="en-US" sz="4000" spc="-1" strike="noStrike">
              <a:solidFill>
                <a:srgbClr val="775f55"/>
              </a:solidFill>
              <a:latin typeface="Calibri"/>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 </a:t>
            </a:r>
            <a:r>
              <a:rPr b="0" lang="el-GR" sz="4000" spc="-1" strike="noStrike">
                <a:solidFill>
                  <a:srgbClr val="000000"/>
                </a:solidFill>
                <a:latin typeface="Calibri"/>
              </a:rPr>
              <a:t>Να επεξεργαστούμε και να οργανώσουμε μαζί ένα επώνυμο  ποιοτικό προϊόν πολιτιστικού τουρισμού, με συνεκτικό στοιχείο τα αρχαία θέατρα της Ηπείρου!</a:t>
            </a:r>
            <a:endParaRPr b="0" lang="en-US" sz="4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Calibri"/>
              </a:rPr>
              <a:t>Να αναλάβουμε </a:t>
            </a:r>
            <a:r>
              <a:rPr b="1" lang="el-GR" sz="4000" spc="-1" strike="noStrike">
                <a:solidFill>
                  <a:srgbClr val="000000"/>
                </a:solidFill>
                <a:latin typeface="Calibri"/>
              </a:rPr>
              <a:t>ΜΑΖΙ</a:t>
            </a:r>
            <a:r>
              <a:rPr b="0" lang="el-GR" sz="4000" spc="-1" strike="noStrike">
                <a:solidFill>
                  <a:srgbClr val="000000"/>
                </a:solidFill>
                <a:latin typeface="Calibri"/>
              </a:rPr>
              <a:t> το ενδιαφέρον αυτό εγχείρημα!</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 </a:t>
            </a:r>
            <a:r>
              <a:rPr b="0" lang="el-GR" sz="4400" spc="-1" strike="noStrike">
                <a:solidFill>
                  <a:srgbClr val="775f55"/>
                </a:solidFill>
                <a:latin typeface="Calibri"/>
              </a:rPr>
              <a:t>Γιατί στην ΄Ηπειρο;</a:t>
            </a:r>
            <a:endParaRPr b="0" lang="en-US" sz="4400" spc="-1" strike="noStrike">
              <a:solidFill>
                <a:srgbClr val="775f55"/>
              </a:solidFill>
              <a:latin typeface="Calibri"/>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Θα πρέπει εξ αρχής να σημειωθεί ότι το εγχείρημα της διαμόρφωσης μιας τέτοιας διαδρομής στην ΄Ηπειρο, δηλ. σε μια μη ιδιαίτερα τουριστική περιφέρεια της Χώρας (παρά την ύπαρξη σημαντικών τουριστικών πυρήνων στα παράλια) δεν είναι εύκολο, διότι </a:t>
            </a:r>
            <a:r>
              <a:rPr b="1" lang="el-GR" sz="2700" spc="-1" strike="noStrike">
                <a:solidFill>
                  <a:srgbClr val="000000"/>
                </a:solidFill>
                <a:latin typeface="Calibri"/>
              </a:rPr>
              <a:t>δεν υπάρχει «έτοιμη» τουριστική πελατεία-μαγιά στα μεγέθη, </a:t>
            </a:r>
            <a:r>
              <a:rPr b="0" lang="el-GR" sz="2700" spc="-1" strike="noStrike">
                <a:solidFill>
                  <a:srgbClr val="000000"/>
                </a:solidFill>
                <a:latin typeface="Calibri"/>
              </a:rPr>
              <a:t>που υπάρχει σε άλλες περιοχές όπως πχ θα μπορούσε να υπάρχει στην Αττική, στην Κρήτη κλπ τουριστικές περιοχές. Αυτό, όμως, καθιστά το εγχείρημα πιο σημαντικό και πρωτότυπο για την περιοχή.</a:t>
            </a:r>
            <a:endParaRPr b="0" lang="en-US" sz="27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Σε ποια πελατεία στοχεύουμε;</a:t>
            </a:r>
            <a:endParaRPr b="0" lang="en-US" sz="4400" spc="-1" strike="noStrike">
              <a:solidFill>
                <a:srgbClr val="775f55"/>
              </a:solidFill>
              <a:latin typeface="Calibri"/>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Η αναμενόμενη τα πρώτα χρόνια </a:t>
            </a:r>
            <a:r>
              <a:rPr b="1" lang="el-GR" sz="2900" spc="-1" strike="noStrike">
                <a:solidFill>
                  <a:srgbClr val="000000"/>
                </a:solidFill>
                <a:latin typeface="Calibri"/>
              </a:rPr>
              <a:t>τουριστική πελατεία</a:t>
            </a:r>
            <a:r>
              <a:rPr b="0" lang="el-GR" sz="2900" spc="-1" strike="noStrike">
                <a:solidFill>
                  <a:srgbClr val="000000"/>
                </a:solidFill>
                <a:latin typeface="Calibri"/>
              </a:rPr>
              <a:t>, προς την οποία και θα πρέπει να στραφεί το στοχευμένο μάρκετινγκ της διαδρομής, είναι </a:t>
            </a:r>
            <a:r>
              <a:rPr b="1" lang="el-GR" sz="2900" spc="-1" strike="noStrike">
                <a:solidFill>
                  <a:srgbClr val="000000"/>
                </a:solidFill>
                <a:latin typeface="Calibri"/>
              </a:rPr>
              <a:t>εσωτερική κυρίως, αλλά, και σε μικρότερα μεγέθη, εισερχόμενη</a:t>
            </a:r>
            <a:r>
              <a:rPr b="0" lang="el-GR" sz="2900" spc="-1" strike="noStrike">
                <a:solidFill>
                  <a:srgbClr val="000000"/>
                </a:solidFill>
                <a:latin typeface="Calibri"/>
              </a:rPr>
              <a:t>: άτομα με υψηλό μορφωτικό επίπεδο και πολιτιστικά ενδιαφέροντα, είτε από το γενικό κοινό είτε ανάμεσα στους ειδικούς επιστήμονες πχ ιστορικούς , αρχαιολόγους, αρχιτέκτονες, αλλά και θεατρολόγους, σκηνοθέτες, ηθοποιούς κλπ</a:t>
            </a:r>
            <a:endParaRPr b="0" lang="en-US" sz="2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Εργασίες του ΔΙΑΖΩΜΑΤΟΣ για το μη τουριστικό τμήμα </a:t>
            </a:r>
            <a:endParaRPr b="0" lang="en-US" sz="4000" spc="-1" strike="noStrike">
              <a:solidFill>
                <a:srgbClr val="775f55"/>
              </a:solidFill>
              <a:latin typeface="Calibri"/>
            </a:endParaRPr>
          </a:p>
        </p:txBody>
      </p:sp>
      <p:sp>
        <p:nvSpPr>
          <p:cNvPr id="382" name=""/>
          <p:cNvSpPr txBox="1"/>
          <p:nvPr/>
        </p:nvSpPr>
        <p:spPr>
          <a:xfrm>
            <a:off x="612720" y="1213920"/>
            <a:ext cx="8153280" cy="53578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Ενεργοποίηση αρμόδιων κρατικών φορέων και συμφωνία με αυτούς (αρμόδιες εφορείες, Περιφέρεια, ΕΟΤ)</a:t>
            </a: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Οργάνωση και υλοποίηση της τεκμηρίωσης, που θ’ αποτελέσει τη βάση για το ενημερωτικό υλικό (έντυπο και ηλεκτρονικό) και τις ξεναγήσεις. </a:t>
            </a: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Εξασφάλιση δυνατότητας επισκέψεων των τουριστών στα αρχαία θέατρα, που συμμετέχουν στη διαδρομή, καθορισμός ημερών και ωραρίων και επιλογή ατόμων που θα πραγματοποιούν την ξενάγηση</a:t>
            </a:r>
            <a:endParaRPr b="0" lang="en-US" sz="2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Εργασίες του ΔΙΑΖΩΜΑΤΟΣ για το μη τουριστικό τμήμα  (2)</a:t>
            </a:r>
            <a:endParaRPr b="0" lang="en-US" sz="4000" spc="-1" strike="noStrike">
              <a:solidFill>
                <a:srgbClr val="775f55"/>
              </a:solidFill>
              <a:latin typeface="Calibri"/>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λεγχος της ποιότητας της υλοποίησης των περιηγήσεων της διαδρομής (προδιαγραφές για τουριστικά γραφεία).</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λεγχος  του μάρκετινγκ της διαδρομής από τη σκοπιά της ποιότητας, </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φαρμογή ηλεκτρονικής ξενάγησης μέσω κινητών τηλεφώνων κλπ εν καιρώ</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υνεννόηση με τον ΕΟΤ  και την Περιφέρεια για το στοχευμένο μάρκετινγκ της διαδρομής</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τήσια επιμόρφωση επαγγελματιών ξεναγών της Ηπείρου στο περιεχόμενο της ξενάγησης των αρχαίων θεάτρων, εφόσον το δεχθεί και το ΥΠΟΤ</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Ο  φάκελος της διαδρομής</a:t>
            </a:r>
            <a:endParaRPr b="0" lang="en-US" sz="4400" spc="-1" strike="noStrike">
              <a:solidFill>
                <a:srgbClr val="775f55"/>
              </a:solidFill>
              <a:latin typeface="Calibri"/>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Οι εργασίες , που θ’ αναλάβει το ΔΙΑΖΩΜΑ, αποτελούν ένα </a:t>
            </a:r>
            <a:r>
              <a:rPr b="1" lang="el-GR" sz="2900" spc="-1" strike="noStrike">
                <a:solidFill>
                  <a:srgbClr val="000000"/>
                </a:solidFill>
                <a:latin typeface="Calibri"/>
              </a:rPr>
              <a:t>ολοκληρωμένο έργο</a:t>
            </a:r>
            <a:r>
              <a:rPr b="0" lang="el-GR" sz="2900" spc="-1" strike="noStrike">
                <a:solidFill>
                  <a:srgbClr val="000000"/>
                </a:solidFill>
                <a:latin typeface="Calibri"/>
              </a:rPr>
              <a:t>-«φάκελο», που θα  καταθέσει το ΔΙΑΖΩΜΑ  στην Περιφέρεια. </a:t>
            </a: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Το ΔΙΑΖΩΜΑ  θα διατηρήσει ασφαλώς τα </a:t>
            </a:r>
            <a:r>
              <a:rPr b="1" lang="el-GR" sz="2900" spc="-1" strike="noStrike">
                <a:solidFill>
                  <a:srgbClr val="000000"/>
                </a:solidFill>
                <a:latin typeface="Calibri"/>
              </a:rPr>
              <a:t>πνευματικά δικαιώματα</a:t>
            </a:r>
            <a:r>
              <a:rPr b="0" lang="el-GR" sz="2900" spc="-1" strike="noStrike">
                <a:solidFill>
                  <a:srgbClr val="000000"/>
                </a:solidFill>
                <a:latin typeface="Calibri"/>
              </a:rPr>
              <a:t> των δικών του εργασιών, πράγμα που θα σημειώνεται στο σχετικό ενημερωτικό υλικό.</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Η τοποθέτηση της διαδρομής </a:t>
            </a:r>
            <a:br>
              <a:rPr sz="4000"/>
            </a:br>
            <a:r>
              <a:rPr b="0" lang="el-GR" sz="4000" spc="-1" strike="noStrike">
                <a:solidFill>
                  <a:srgbClr val="775f55"/>
                </a:solidFill>
                <a:latin typeface="Calibri"/>
              </a:rPr>
              <a:t>στην Αγορά</a:t>
            </a:r>
            <a:endParaRPr b="0" lang="en-US" sz="4000" spc="-1" strike="noStrike">
              <a:solidFill>
                <a:srgbClr val="775f55"/>
              </a:solidFill>
              <a:latin typeface="Calibri"/>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Με την ολοκλήρωση του φακέλου θα πρέπει να αντιμετωπιστεί το πρακτικό πρόβλημα της υλοποίησης της περιήγησης, δηλ. της </a:t>
            </a:r>
            <a:r>
              <a:rPr b="1" lang="el-GR" sz="2700" spc="-1" strike="noStrike">
                <a:solidFill>
                  <a:srgbClr val="000000"/>
                </a:solidFill>
                <a:latin typeface="Calibri"/>
              </a:rPr>
              <a:t>τοποθέτησής της στην Αγορά</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ΔΙΑΖΩΜΑ δεν μπορεί να συμβληθεί με τουριστικά γραφεία, έχει, όμως., συμφέρον, το συγκεκριμένο προϊόν να είναι υψηλού ποιοτικού επιπέδου, γι αυτό μπορεί </a:t>
            </a:r>
            <a:r>
              <a:rPr b="1" lang="el-GR" sz="3000" spc="-1" strike="noStrike">
                <a:solidFill>
                  <a:srgbClr val="000000"/>
                </a:solidFill>
                <a:latin typeface="Calibri"/>
              </a:rPr>
              <a:t>να καταρτίσει συγκεκριμένες προϋποθέσεις  </a:t>
            </a:r>
            <a:r>
              <a:rPr b="0" lang="el-GR" sz="3000" spc="-1" strike="noStrike">
                <a:solidFill>
                  <a:srgbClr val="000000"/>
                </a:solidFill>
                <a:latin typeface="Calibri"/>
              </a:rPr>
              <a:t>για την πραγματοποίηση της διαδρομής εκ μέρους ενός ή περισσοτέρων γραφείων.</a:t>
            </a:r>
            <a:endParaRPr b="0" lang="en-US" sz="30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612720" y="1600200"/>
            <a:ext cx="8153280" cy="4495680"/>
          </a:xfrm>
          <a:prstGeom prst="rect">
            <a:avLst/>
          </a:prstGeom>
          <a:noFill/>
          <a:ln w="0">
            <a:noFill/>
          </a:ln>
        </p:spPr>
        <p:txBody>
          <a:bodyPr anchor="t">
            <a:normAutofit fontScale="86000"/>
          </a:bodyPr>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Να αναλάβει η Περιφέρεια τη σχέση με τα τουριστικά γραφεία. Η Περιφέρεια θα πρέπει, στην περίπτωση αυτή,  να  καλέσει τα τουριστικά γραφεία να εκδηλώσουν το ενδιαφέρον τους, θέτοντας τους όρους (στους οποίους θα συμπεριλαμβάνονται και οι ποιοτικοί όροι και τα πνευματικά δικαιώματα του ΔΙΑΖΩΜΑΤΟΣ) και εξασφαλίζοντας,  εφόσον καταστεί δυνατό, ένα ποσοστό της τελικής τιμής των πακέτων, που θα διατίθεται για τη συντήρηση των οικείων χώρων. Στην περίπτωση αυτή, τη σύμβαση ή συμβάσεις  με τα τουριστικά γραφεία θα καταρτίσει η Περιφέρεια.</a:t>
            </a:r>
            <a:endParaRPr b="0" lang="en-US" sz="2800" spc="-1" strike="noStrike">
              <a:solidFill>
                <a:srgbClr val="000000"/>
              </a:solidFill>
              <a:latin typeface="Calibri"/>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 </a:t>
            </a:r>
            <a:endParaRPr b="0" lang="en-US" sz="2800" spc="-1" strike="noStrike">
              <a:solidFill>
                <a:srgbClr val="000000"/>
              </a:solidFill>
              <a:latin typeface="Calibri"/>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Γι αυτό προτείνουμε :</a:t>
            </a:r>
            <a:endParaRPr b="0" lang="en-US" sz="44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Περιηγήσεις ποιοτικά άρτιες</a:t>
            </a:r>
            <a:endParaRPr b="0" lang="en-US" sz="4400" spc="-1" strike="noStrike">
              <a:solidFill>
                <a:srgbClr val="775f55"/>
              </a:solidFill>
              <a:latin typeface="Calibri"/>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συνεργασία Περιφέρειας και ΔΙΑΖΩΜΑΤΟΣ θα πρέπει να εξασφαλίσει, ότι οι περιηγήσεις θα είναι </a:t>
            </a:r>
            <a:r>
              <a:rPr b="1" lang="el-GR" sz="2500" spc="-1" strike="noStrike">
                <a:solidFill>
                  <a:srgbClr val="000000"/>
                </a:solidFill>
                <a:latin typeface="Calibri"/>
              </a:rPr>
              <a:t>ποιοτικά άρτιες</a:t>
            </a:r>
            <a:r>
              <a:rPr b="0" lang="el-GR" sz="2500" spc="-1" strike="noStrike">
                <a:solidFill>
                  <a:srgbClr val="000000"/>
                </a:solidFill>
                <a:latin typeface="Calibri"/>
              </a:rPr>
              <a:t> (ως «άρτιες» δεν νοούνται κατ’ ανάγκην οι «πολυτελείς») και θα συγκεντρώνουν  εκ των προτέρων πιθανότητες επιτυχίας, ότι δηλαδή :</a:t>
            </a:r>
            <a:endParaRPr b="0" lang="en-US" sz="25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Θα υπάρχει πραγματική δικτύωση με Τ.Ος και τουριστικά γραφεία, που διακινούν πολιτιστικό τουρισμό και γενικά τουρισμό ειδικών ενδιαφερόντων  στην Ελλάδα και το Εξωτερικό (</a:t>
            </a:r>
            <a:r>
              <a:rPr b="0" lang="en-US" sz="2500" spc="-1" strike="noStrike">
                <a:solidFill>
                  <a:srgbClr val="000000"/>
                </a:solidFill>
                <a:latin typeface="Tw Cen MT"/>
              </a:rPr>
              <a:t>archeology T</a:t>
            </a:r>
            <a:r>
              <a:rPr b="0" lang="el-GR" sz="2500" spc="-1" strike="noStrike">
                <a:solidFill>
                  <a:srgbClr val="000000"/>
                </a:solidFill>
                <a:latin typeface="Calibri"/>
              </a:rPr>
              <a:t>.</a:t>
            </a:r>
            <a:r>
              <a:rPr b="0" lang="en-US" sz="2500" spc="-1" strike="noStrike">
                <a:solidFill>
                  <a:srgbClr val="000000"/>
                </a:solidFill>
                <a:latin typeface="Tw Cen MT"/>
              </a:rPr>
              <a:t>Os</a:t>
            </a:r>
            <a:r>
              <a:rPr b="0" lang="el-GR" sz="2500" spc="-1" strike="noStrike">
                <a:solidFill>
                  <a:srgbClr val="000000"/>
                </a:solidFill>
                <a:latin typeface="Calibri"/>
              </a:rPr>
              <a:t>, </a:t>
            </a:r>
            <a:r>
              <a:rPr b="0" lang="en-US" sz="2500" spc="-1" strike="noStrike">
                <a:solidFill>
                  <a:srgbClr val="000000"/>
                </a:solidFill>
                <a:latin typeface="Tw Cen MT"/>
              </a:rPr>
              <a:t>classical toursT</a:t>
            </a:r>
            <a:r>
              <a:rPr b="0" lang="el-GR" sz="2500" spc="-1" strike="noStrike">
                <a:solidFill>
                  <a:srgbClr val="000000"/>
                </a:solidFill>
                <a:latin typeface="Calibri"/>
              </a:rPr>
              <a:t>.</a:t>
            </a:r>
            <a:r>
              <a:rPr b="0" lang="en-US" sz="2500" spc="-1" strike="noStrike">
                <a:solidFill>
                  <a:srgbClr val="000000"/>
                </a:solidFill>
                <a:latin typeface="Tw Cen MT"/>
              </a:rPr>
              <a:t>Os </a:t>
            </a:r>
            <a:r>
              <a:rPr b="0" lang="el-GR" sz="2500" spc="-1" strike="noStrike">
                <a:solidFill>
                  <a:srgbClr val="000000"/>
                </a:solidFill>
                <a:latin typeface="Calibri"/>
              </a:rPr>
              <a:t>κλπ)</a:t>
            </a:r>
            <a:endParaRPr b="0" lang="en-US" sz="25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Ότι οι καθαρά τουριστικές υπηρεσίες θα είναι άρτιες (η προϋπόθεση αυτή περιλαμβάνει μια μακροσκελή σειρά άλλων, που μπορεί να αναλυθεί στις επί μέρους τουριστικές υπηρεσίες)</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Η πολιτιστική διαδρομή, ως επώνυμο τουριστικό προϊόν</a:t>
            </a:r>
            <a:endParaRPr b="0" lang="en-US" sz="4000" spc="-1" strike="noStrike">
              <a:solidFill>
                <a:srgbClr val="775f55"/>
              </a:solidFill>
              <a:latin typeface="Calibri"/>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πολιτιστική διαδρομή είναι ένα </a:t>
            </a:r>
            <a:r>
              <a:rPr b="1" lang="el-GR" sz="2700" spc="-1" strike="noStrike">
                <a:solidFill>
                  <a:srgbClr val="000000"/>
                </a:solidFill>
                <a:latin typeface="Calibri"/>
              </a:rPr>
              <a:t>εξειδικευμένο και επώνυμο τουριστικό προϊόν</a:t>
            </a:r>
            <a:r>
              <a:rPr b="0" lang="el-GR" sz="2700" spc="-1" strike="noStrike">
                <a:solidFill>
                  <a:srgbClr val="000000"/>
                </a:solidFill>
                <a:latin typeface="Calibri"/>
              </a:rPr>
              <a:t>, ένα προϊόν πολιτιστικού τουρισμού, το οποίο διαμορφώνεται με βάση ένα συγκεκριμένο </a:t>
            </a:r>
            <a:r>
              <a:rPr b="1" lang="el-GR" sz="2700" spc="-1" strike="noStrike">
                <a:solidFill>
                  <a:srgbClr val="000000"/>
                </a:solidFill>
                <a:latin typeface="Calibri"/>
              </a:rPr>
              <a:t>συνεκτικό στοιχείο </a:t>
            </a:r>
            <a:r>
              <a:rPr b="0" lang="el-GR" sz="2700" spc="-1" strike="noStrike">
                <a:solidFill>
                  <a:srgbClr val="000000"/>
                </a:solidFill>
                <a:latin typeface="Calibri"/>
              </a:rPr>
              <a:t>.</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 </a:t>
            </a:r>
            <a:r>
              <a:rPr b="0" lang="el-GR" sz="2700" spc="-1" strike="noStrike">
                <a:solidFill>
                  <a:srgbClr val="000000"/>
                </a:solidFill>
                <a:latin typeface="Calibri"/>
              </a:rPr>
              <a:t>Το συνεκτικό στοιχείο-«θέμα» μπορεί να είναι : αρχαιότητες  όπως πχ παρεμφερή στοιχεία της ίδιας περιόδου ή διαφόρων περιόδων ή ακόμη και ιστορικές διαδρομές, μύθοι κ.ο.κ.  </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πρότασή μας αφορά μια πολιτιστική διαδρομή με </a:t>
            </a:r>
            <a:r>
              <a:rPr b="1" lang="el-GR" sz="2700" spc="-1" strike="noStrike">
                <a:solidFill>
                  <a:srgbClr val="000000"/>
                </a:solidFill>
                <a:latin typeface="Calibri"/>
              </a:rPr>
              <a:t>συνεκτικό στοιχείο τους αρχαίους χώρους θέασης και ακρόασης μιας περιοχής</a:t>
            </a:r>
            <a:r>
              <a:rPr b="0" lang="el-GR" sz="2700" spc="-1" strike="noStrike">
                <a:solidFill>
                  <a:srgbClr val="000000"/>
                </a:solidFill>
                <a:latin typeface="Calibri"/>
              </a:rPr>
              <a:t>, και συγκεκριμένα της ΗΠΕΙΡΟΥ , σε ένα πρώτο τουλάχιστον </a:t>
            </a:r>
            <a:r>
              <a:rPr b="1" lang="el-GR" sz="2700" spc="-1" strike="noStrike">
                <a:solidFill>
                  <a:srgbClr val="000000"/>
                </a:solidFill>
                <a:latin typeface="Calibri"/>
              </a:rPr>
              <a:t>πιλοτικό στάδιο</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775f55"/>
                </a:solidFill>
                <a:latin typeface="Calibri"/>
              </a:rPr>
              <a:t>Για να βελτιώσει την τουριστική της ζήτηση η Χώρα πρέπει να διαμορφώσει διαδρομές</a:t>
            </a:r>
            <a:endParaRPr b="0" lang="en-US" sz="3200" spc="-1" strike="noStrike">
              <a:solidFill>
                <a:srgbClr val="775f55"/>
              </a:solidFill>
              <a:latin typeface="Calibri"/>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Σύμφωνα με την τελευταία  στρατηγική μελέτη μάρκετινγκ του Ελληνικού Τουρισμού (εκπόνηση </a:t>
            </a:r>
            <a:r>
              <a:rPr b="0" lang="en-US" sz="2500" spc="-1" strike="noStrike">
                <a:solidFill>
                  <a:srgbClr val="000000"/>
                </a:solidFill>
                <a:latin typeface="Tw Cen MT"/>
              </a:rPr>
              <a:t>PRC</a:t>
            </a:r>
            <a:r>
              <a:rPr b="0" lang="el-GR" sz="2500" spc="-1" strike="noStrike">
                <a:solidFill>
                  <a:srgbClr val="000000"/>
                </a:solidFill>
                <a:latin typeface="Calibri"/>
              </a:rPr>
              <a:t>-</a:t>
            </a:r>
            <a:r>
              <a:rPr b="0" lang="en-US" sz="2500" spc="-1" strike="noStrike">
                <a:solidFill>
                  <a:srgbClr val="000000"/>
                </a:solidFill>
                <a:latin typeface="Tw Cen MT"/>
              </a:rPr>
              <a:t>MRB </a:t>
            </a:r>
            <a:r>
              <a:rPr b="0" lang="el-GR" sz="2500" spc="-1" strike="noStrike">
                <a:solidFill>
                  <a:srgbClr val="000000"/>
                </a:solidFill>
                <a:latin typeface="Calibri"/>
              </a:rPr>
              <a:t> και </a:t>
            </a:r>
            <a:r>
              <a:rPr b="0" lang="en-US" sz="2500" spc="-1" strike="noStrike">
                <a:solidFill>
                  <a:srgbClr val="000000"/>
                </a:solidFill>
                <a:latin typeface="Tw Cen MT"/>
              </a:rPr>
              <a:t>THR </a:t>
            </a:r>
            <a:r>
              <a:rPr b="0" lang="el-GR" sz="2500" spc="-1" strike="noStrike">
                <a:solidFill>
                  <a:srgbClr val="000000"/>
                </a:solidFill>
                <a:latin typeface="Calibri"/>
              </a:rPr>
              <a:t>Ισπανίας, 2007) που ανέθεσε ο ΕΟΤ, η Χώρα πρέπει να στραφεί στη δημιουργία εξειδικευμένων επώνυμων (</a:t>
            </a:r>
            <a:r>
              <a:rPr b="0" lang="en-US" sz="2500" spc="-1" strike="noStrike">
                <a:solidFill>
                  <a:srgbClr val="000000"/>
                </a:solidFill>
                <a:latin typeface="Tw Cen MT"/>
              </a:rPr>
              <a:t>branded</a:t>
            </a:r>
            <a:r>
              <a:rPr b="0" lang="el-GR" sz="2500" spc="-1" strike="noStrike">
                <a:solidFill>
                  <a:srgbClr val="000000"/>
                </a:solidFill>
                <a:latin typeface="Calibri"/>
              </a:rPr>
              <a:t>) προϊόντων με </a:t>
            </a:r>
            <a:r>
              <a:rPr b="1" lang="el-GR" sz="2500" spc="-1" strike="noStrike">
                <a:solidFill>
                  <a:srgbClr val="000000"/>
                </a:solidFill>
                <a:latin typeface="Calibri"/>
              </a:rPr>
              <a:t>μορφή διαδρομών ή δικτύων</a:t>
            </a:r>
            <a:r>
              <a:rPr b="0" lang="el-GR" sz="2500" spc="-1" strike="noStrike">
                <a:solidFill>
                  <a:srgbClr val="000000"/>
                </a:solidFill>
                <a:latin typeface="Calibri"/>
              </a:rPr>
              <a:t>, κάτι που δεν έχει γίνει επαρκώς.</a:t>
            </a:r>
            <a:endParaRPr b="0" lang="en-US" sz="25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 </a:t>
            </a:r>
            <a:r>
              <a:rPr b="0" lang="el-GR" sz="2500" spc="-1" strike="noStrike">
                <a:solidFill>
                  <a:srgbClr val="000000"/>
                </a:solidFill>
                <a:latin typeface="Calibri"/>
              </a:rPr>
              <a:t>Στο χώρο του πολιτιστικού τουρισμού δεν υπάρχουν τέτοια προϊόντα  από τα δεκάδες, που θα μπορούσαν να οργανωθούν (πχ προϊστορικές αρχαιότητες, κυκλαδικός πολιτισμός, κλασσικά μνημεία και αρχαιολογικοί χώροι ευρύτερων περιοχών, βυζαντινά μνημεία  ευρύτερων περιοχών, παραδοσιακοί οικισμοί συγκεκριμένων αρχιτεκτονικών τύπων ή επί μέρους στοιχεία παραδοσιακής αρχιτεκτονικής κ.ο.κ).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Γιατί δεν υπάρχουν πολιτιστικές διαδρομές;</a:t>
            </a:r>
            <a:endParaRPr b="0" lang="en-US" sz="4000" spc="-1" strike="noStrike">
              <a:solidFill>
                <a:srgbClr val="775f55"/>
              </a:solidFill>
              <a:latin typeface="Calibri"/>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Ο λόγος είναι κυρίως η έλλειψη της παρέμβασης ενός   </a:t>
            </a:r>
            <a:r>
              <a:rPr b="1" lang="el-GR" sz="2200" spc="-1" strike="noStrike">
                <a:solidFill>
                  <a:srgbClr val="000000"/>
                </a:solidFill>
                <a:latin typeface="Calibri"/>
              </a:rPr>
              <a:t>φορέα, </a:t>
            </a:r>
            <a:r>
              <a:rPr b="0" lang="el-GR" sz="2200" spc="-1" strike="noStrike">
                <a:solidFill>
                  <a:srgbClr val="000000"/>
                </a:solidFill>
                <a:latin typeface="Calibri"/>
              </a:rPr>
              <a:t>που θ’ αναλάβει την οργάνωση αυτή, ενός φορέα  είτε ιδιωτικού, δηλ. μιας εταιρείας διαχείρισης του προορισμού  (</a:t>
            </a:r>
            <a:r>
              <a:rPr b="0" lang="en-US" sz="2200" spc="-1" strike="noStrike">
                <a:solidFill>
                  <a:srgbClr val="000000"/>
                </a:solidFill>
                <a:latin typeface="Tw Cen MT"/>
              </a:rPr>
              <a:t>destination management company</a:t>
            </a:r>
            <a:r>
              <a:rPr b="0" lang="el-GR" sz="2200" spc="-1" strike="noStrike">
                <a:solidFill>
                  <a:srgbClr val="000000"/>
                </a:solidFill>
                <a:latin typeface="Calibri"/>
              </a:rPr>
              <a:t>- </a:t>
            </a:r>
            <a:r>
              <a:rPr b="0" lang="en-US" sz="2200" spc="-1" strike="noStrike">
                <a:solidFill>
                  <a:srgbClr val="000000"/>
                </a:solidFill>
                <a:latin typeface="Tw Cen MT"/>
              </a:rPr>
              <a:t>DMC</a:t>
            </a:r>
            <a:r>
              <a:rPr b="0" lang="el-GR" sz="2200" spc="-1" strike="noStrike">
                <a:solidFill>
                  <a:srgbClr val="000000"/>
                </a:solidFill>
                <a:latin typeface="Calibri"/>
              </a:rPr>
              <a:t>), που σύμφωνα με την ελληνική νομοθεσία θα μπορούσε να είναι ένα νόμιμο τουριστικό γραφείο, είτε ενός φορέα του ευρύτερου δημόσιου τομέα, δηλ. </a:t>
            </a:r>
            <a:r>
              <a:rPr b="1" lang="el-GR" sz="2200" spc="-1" strike="noStrike">
                <a:solidFill>
                  <a:srgbClr val="000000"/>
                </a:solidFill>
                <a:latin typeface="Calibri"/>
              </a:rPr>
              <a:t>ενός Οργανισμού διαχείρισης του προορισμού </a:t>
            </a:r>
            <a:r>
              <a:rPr b="0" lang="el-GR" sz="2200" spc="-1" strike="noStrike">
                <a:solidFill>
                  <a:srgbClr val="000000"/>
                </a:solidFill>
                <a:latin typeface="Calibri"/>
              </a:rPr>
              <a:t>(</a:t>
            </a:r>
            <a:r>
              <a:rPr b="0" lang="en-US" sz="2200" spc="-1" strike="noStrike">
                <a:solidFill>
                  <a:srgbClr val="000000"/>
                </a:solidFill>
                <a:latin typeface="Tw Cen MT"/>
              </a:rPr>
              <a:t>destination management organization</a:t>
            </a:r>
            <a:r>
              <a:rPr b="0" lang="el-GR" sz="2200" spc="-1" strike="noStrike">
                <a:solidFill>
                  <a:srgbClr val="000000"/>
                </a:solidFill>
                <a:latin typeface="Calibri"/>
              </a:rPr>
              <a:t>- </a:t>
            </a:r>
            <a:r>
              <a:rPr b="1" lang="en-US" sz="2200" spc="-1" strike="noStrike">
                <a:solidFill>
                  <a:srgbClr val="000000"/>
                </a:solidFill>
                <a:latin typeface="Tw Cen MT"/>
              </a:rPr>
              <a:t>DMO</a:t>
            </a:r>
            <a:r>
              <a:rPr b="0" lang="el-GR" sz="2200" spc="-1" strike="noStrike">
                <a:solidFill>
                  <a:srgbClr val="000000"/>
                </a:solidFill>
                <a:latin typeface="Calibri"/>
              </a:rPr>
              <a:t>)., που θα μπορούσε να είναι μια αναπτυξιακή εταιρεία και οποιοσδήποτε άλλος δημόσιος ή ιδιωτικός μη κερδοσκοπικός φορέας. Χωρίς την ανάμειξη ενός </a:t>
            </a:r>
            <a:r>
              <a:rPr b="0" lang="en-US" sz="2200" spc="-1" strike="noStrike">
                <a:solidFill>
                  <a:srgbClr val="000000"/>
                </a:solidFill>
                <a:latin typeface="Tw Cen MT"/>
              </a:rPr>
              <a:t>DMO</a:t>
            </a:r>
            <a:r>
              <a:rPr b="0" lang="el-GR" sz="2200" spc="-1" strike="noStrike">
                <a:solidFill>
                  <a:srgbClr val="000000"/>
                </a:solidFill>
                <a:latin typeface="Calibri"/>
              </a:rPr>
              <a:t>, η απαιτούμενη οργάνωση δεν είναι δυνατή, καθώς ελάχιστες είναι οι περιπτώσεις που ιδιωτικοί φορείς- </a:t>
            </a:r>
            <a:r>
              <a:rPr b="0" lang="en-US" sz="2200" spc="-1" strike="noStrike">
                <a:solidFill>
                  <a:srgbClr val="000000"/>
                </a:solidFill>
                <a:latin typeface="Tw Cen MT"/>
              </a:rPr>
              <a:t>DMC</a:t>
            </a:r>
            <a:r>
              <a:rPr b="0" lang="el-GR" sz="2200" spc="-1" strike="noStrike">
                <a:solidFill>
                  <a:srgbClr val="000000"/>
                </a:solidFill>
                <a:latin typeface="Calibri"/>
              </a:rPr>
              <a:t> αναλαμβάνουν τη σχετική επένδυση και τον επιχειρηματικό κίνδυνο.</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Απαιτήσεις μιας διαδρομής</a:t>
            </a:r>
            <a:endParaRPr b="0" lang="en-US" sz="4400" spc="-1" strike="noStrike">
              <a:solidFill>
                <a:srgbClr val="775f55"/>
              </a:solidFill>
              <a:latin typeface="Calibri"/>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να εξειδικευμένο τουριστικό προϊόν , όπως η πολιτιστική διαδρομή, </a:t>
            </a:r>
            <a:r>
              <a:rPr b="1" lang="el-GR" sz="2900" spc="-1" strike="noStrike">
                <a:solidFill>
                  <a:srgbClr val="000000"/>
                </a:solidFill>
                <a:latin typeface="Calibri"/>
              </a:rPr>
              <a:t>προϋποθέτει οργάνωση και </a:t>
            </a:r>
            <a:r>
              <a:rPr b="0" lang="el-GR" sz="2900" spc="-1" strike="noStrike">
                <a:solidFill>
                  <a:srgbClr val="000000"/>
                </a:solidFill>
                <a:latin typeface="Calibri"/>
              </a:rPr>
              <a:t> </a:t>
            </a:r>
            <a:r>
              <a:rPr b="1" lang="el-GR" sz="2900" spc="-1" strike="noStrike">
                <a:solidFill>
                  <a:srgbClr val="000000"/>
                </a:solidFill>
                <a:latin typeface="Calibri"/>
              </a:rPr>
              <a:t>τοποθέτησή του στη Αγορά</a:t>
            </a:r>
            <a:r>
              <a:rPr b="0" lang="el-GR" sz="2900" spc="-1" strike="noStrike">
                <a:solidFill>
                  <a:srgbClr val="000000"/>
                </a:solidFill>
                <a:latin typeface="Calibri"/>
              </a:rPr>
              <a:t>, κάτι που φυσικά δεν κάνει το Υπ.Πολιτισμού, αλλά ούτε ο ΕΟΤ.</a:t>
            </a:r>
            <a:endParaRPr b="0" lang="en-US" sz="2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Πριν από αυτά, προϋποθέτει επιλογή του συνεκτικού στοιχείου, των χώρων επίσκεψης, τεκμηρίωση, που να διευκολύνει όχι μόνο τις ξεναγήσεις αλλά και τη δημιουργία έντυπου και ηλεκτρονικού πληροφοριακού υλικού και  οργάνωση των επισκέψεων μέσα στους χώρους </a:t>
            </a:r>
            <a:endParaRPr b="0" lang="en-US" sz="29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Απαιτήσεις μιας διαδρομής (2)</a:t>
            </a:r>
            <a:endParaRPr b="0" lang="en-US" sz="4400" spc="-1" strike="noStrike">
              <a:solidFill>
                <a:srgbClr val="775f55"/>
              </a:solidFill>
              <a:latin typeface="Calibri"/>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a:t>
            </a:r>
            <a:r>
              <a:rPr b="1" lang="el-GR" sz="2700" spc="-1" strike="noStrike">
                <a:solidFill>
                  <a:srgbClr val="000000"/>
                </a:solidFill>
                <a:latin typeface="Calibri"/>
              </a:rPr>
              <a:t>τεκμηρίωση</a:t>
            </a:r>
            <a:r>
              <a:rPr b="0" lang="el-GR" sz="2700" spc="-1" strike="noStrike">
                <a:solidFill>
                  <a:srgbClr val="000000"/>
                </a:solidFill>
                <a:latin typeface="Calibri"/>
              </a:rPr>
              <a:t> είναι πολύ σημαντική, αν  λάβουμε υπόψη, ότι η τουριστική πελατεία μιας διαδρομής δεν είναι συνήθως – ή δεν είναι μόνο- το λεγόμενο </a:t>
            </a:r>
            <a:r>
              <a:rPr b="1" lang="el-GR" sz="2700" spc="-1" strike="noStrike">
                <a:solidFill>
                  <a:srgbClr val="000000"/>
                </a:solidFill>
                <a:latin typeface="Calibri"/>
              </a:rPr>
              <a:t>γενικό κοινό,  </a:t>
            </a:r>
            <a:r>
              <a:rPr b="0" lang="el-GR" sz="2700" spc="-1" strike="noStrike">
                <a:solidFill>
                  <a:srgbClr val="000000"/>
                </a:solidFill>
                <a:latin typeface="Calibri"/>
              </a:rPr>
              <a:t>αλλά και </a:t>
            </a:r>
            <a:r>
              <a:rPr b="1" lang="el-GR" sz="2700" spc="-1" strike="noStrike">
                <a:solidFill>
                  <a:srgbClr val="000000"/>
                </a:solidFill>
                <a:latin typeface="Calibri"/>
              </a:rPr>
              <a:t>άτομα με εξειδικευμένα ενδιαφέροντα </a:t>
            </a:r>
            <a:r>
              <a:rPr b="0" lang="el-GR" sz="2700" spc="-1" strike="noStrike">
                <a:solidFill>
                  <a:srgbClr val="000000"/>
                </a:solidFill>
                <a:latin typeface="Calibri"/>
              </a:rPr>
              <a:t>πχ αρχαιολόγοι, ιστορικοί, κλπ</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τοποθέτηση της διαδρομής, ως εξειδικευμένου προϊόντος πολιτιστικού τουρισμού, στην Αγορά  εσωτερικού και εισερχόμενου τουρισμού  γίνεται από </a:t>
            </a:r>
            <a:r>
              <a:rPr b="1" lang="el-GR" sz="2700" spc="-1" strike="noStrike">
                <a:solidFill>
                  <a:srgbClr val="000000"/>
                </a:solidFill>
                <a:latin typeface="Calibri"/>
              </a:rPr>
              <a:t>τουριστικά γραφεία</a:t>
            </a:r>
            <a:r>
              <a:rPr b="0" lang="el-GR" sz="2700" spc="-1" strike="noStrike">
                <a:solidFill>
                  <a:srgbClr val="000000"/>
                </a:solidFill>
                <a:latin typeface="Calibri"/>
              </a:rPr>
              <a:t>, που εξάλλου οργανώνουν και τις αναγκαίες μετακινήσεις, κλείνουν διανυκτερεύσεις, γεύματα  κλπ και που προσφέρουν το προϊόν σε ολοκληρωμένη μορφή και  το προβάλλουν  κατάλληλα.</a:t>
            </a: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775f55"/>
                </a:solidFill>
                <a:latin typeface="Calibri"/>
              </a:rPr>
              <a:t>Η πρόταση του ΔΙΑΖΩΜΑΤΟΣ</a:t>
            </a:r>
            <a:endParaRPr b="0" lang="en-US" sz="4400" spc="-1" strike="noStrike">
              <a:solidFill>
                <a:srgbClr val="775f55"/>
              </a:solidFill>
              <a:latin typeface="Calibri"/>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πρόταση  του ΔΙΑΖΩΜΑΤΟΣ   είναι  να αναλάβει τη διαμόρφωση μιας τέτοιας διαδρομής  στην ΄Ηπειρο. Θα επιλέξει δηλαδή ένα «δρομολόγιο», μια σύνθεση της  επίσκεψης αρχαίων θεάτρων, θα εξασφαλίσει την τεκμηρίωση, θα λάβει τις αναγκαίες άδειες, θα επιλέξει τα  άτομα, που θα ξεναγούν σε κάθε χώρο, και γενικά θα καταρτίσει </a:t>
            </a:r>
            <a:r>
              <a:rPr b="1" lang="el-GR" sz="2700" spc="-1" strike="noStrike">
                <a:solidFill>
                  <a:srgbClr val="000000"/>
                </a:solidFill>
                <a:latin typeface="Calibri"/>
              </a:rPr>
              <a:t>το μη τουριστικό </a:t>
            </a:r>
            <a:r>
              <a:rPr b="0" lang="el-GR" sz="2700" spc="-1" strike="noStrike">
                <a:solidFill>
                  <a:srgbClr val="000000"/>
                </a:solidFill>
                <a:latin typeface="Calibri"/>
              </a:rPr>
              <a:t>τμήμα του προγράμματος των επισκέψεων.</a:t>
            </a:r>
            <a:endParaRPr b="0" lang="en-US" sz="2700" spc="-1" strike="noStrike">
              <a:solidFill>
                <a:srgbClr val="000000"/>
              </a:solidFill>
              <a:latin typeface="Calibri"/>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Το καθαρά </a:t>
            </a:r>
            <a:r>
              <a:rPr b="1" lang="el-GR" sz="2700" spc="-1" strike="noStrike">
                <a:solidFill>
                  <a:srgbClr val="000000"/>
                </a:solidFill>
                <a:latin typeface="Calibri"/>
              </a:rPr>
              <a:t>τουριστικό πακέτο </a:t>
            </a:r>
            <a:r>
              <a:rPr b="0" lang="el-GR" sz="2700" spc="-1" strike="noStrike">
                <a:solidFill>
                  <a:srgbClr val="000000"/>
                </a:solidFill>
                <a:latin typeface="Calibri"/>
              </a:rPr>
              <a:t>(τοποθέτηση της διαδρομής στην Αγορά) εκφεύγει των σκοπών και της εμπειρίας του ΔΙΑΖΩΜΑΤΟ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Το τουριστικό τμήμα της διαδρομής</a:t>
            </a:r>
            <a:endParaRPr b="0" lang="en-US" sz="4000" spc="-1" strike="noStrike">
              <a:solidFill>
                <a:srgbClr val="775f55"/>
              </a:solidFill>
              <a:latin typeface="Calibri"/>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Calibri"/>
              </a:rPr>
              <a:t>Είναι προφανές ότι το ΔΙΑΖΩΜΑ δεν μπορεί να οργανώσει το τουριστικό (εμπορικό) πακέτο της διαδρομής, δηλ να εξασφαλίσει τις τουριστικές υπηρεσίες (τουριστικά λεωφορεία, ξενοδοχεία, εστίαση κλπ ) ούτε να υπεισέλθει στο χρονικό πρόγραμμα της περιήγησης (πχ μία ημέρα ή περισσότερες), με μόνη εξαίρεση τα ωράρια των επισκέψεων, που θα  είναι συγκεκριμένα και συμφωνημένα με την τοπική εφορεία.  Κατά συνέπεια, το </a:t>
            </a:r>
            <a:r>
              <a:rPr b="1" lang="el-GR" sz="2900" spc="-1" strike="noStrike">
                <a:solidFill>
                  <a:srgbClr val="000000"/>
                </a:solidFill>
                <a:latin typeface="Calibri"/>
              </a:rPr>
              <a:t>τουριστικό πακέτο</a:t>
            </a:r>
            <a:r>
              <a:rPr b="0" lang="el-GR" sz="2900" spc="-1" strike="noStrike">
                <a:solidFill>
                  <a:srgbClr val="000000"/>
                </a:solidFill>
                <a:latin typeface="Calibri"/>
              </a:rPr>
              <a:t> θα το αναλάβει ένα ή περισσότερα τουριστικά γραφεία.</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775f55"/>
                </a:solidFill>
                <a:latin typeface="Calibri"/>
              </a:rPr>
              <a:t>Για ένα επώνυμο (</a:t>
            </a:r>
            <a:r>
              <a:rPr b="0" lang="en-US" sz="4000" spc="-1" strike="noStrike">
                <a:solidFill>
                  <a:srgbClr val="775f55"/>
                </a:solidFill>
                <a:latin typeface="Tw Cen MT"/>
              </a:rPr>
              <a:t>branded) </a:t>
            </a:r>
            <a:r>
              <a:rPr b="0" lang="el-GR" sz="4000" spc="-1" strike="noStrike">
                <a:solidFill>
                  <a:srgbClr val="775f55"/>
                </a:solidFill>
                <a:latin typeface="Calibri"/>
              </a:rPr>
              <a:t>πρόϊόν</a:t>
            </a:r>
            <a:endParaRPr b="0" lang="en-US" sz="4000" spc="-1" strike="noStrike">
              <a:solidFill>
                <a:srgbClr val="775f55"/>
              </a:solidFill>
              <a:latin typeface="Calibri"/>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Θα πρέπει να διευκρινίσουμε εξ αρχής, ότι το οποιοδήποτε τουριστικό γραφείο (κατά την ελληνική νομοθεσία μόνο τα νόμιμα τουριστικά γραφεία μπορούν να οργανώνουν εκδρομές και περιηγήσεις σε εμπορική βάση Ν.393/76 άρθρ.1) θα μπορούσε να έχει οργανώσει ή να οργανώσει οποτεδήποτε στο μέλλον μια τέτοια διαδρομή.  ΄Όμως, αφενός αυτό δεν έχει συμβεί, και αφετέρου το ζητούμενο δεν είναι να οργανωθεί απλά μια εκδρομή τουριστικού γραφείου, αλλά ένα «επώνυμο (</a:t>
            </a:r>
            <a:r>
              <a:rPr b="0" lang="en-US" sz="2400" spc="-1" strike="noStrike">
                <a:solidFill>
                  <a:srgbClr val="000000"/>
                </a:solidFill>
                <a:latin typeface="Tw Cen MT"/>
              </a:rPr>
              <a:t>branded</a:t>
            </a:r>
            <a:r>
              <a:rPr b="0" lang="el-GR" sz="2400" spc="-1" strike="noStrike">
                <a:solidFill>
                  <a:srgbClr val="000000"/>
                </a:solidFill>
                <a:latin typeface="Calibri"/>
              </a:rPr>
              <a:t>)  τουριστικό προϊόν», που να χαρακτηρίζεται  από ποιότητα, και μάλιστα  με την εγγύηση ενός πολιτιστικού φορέα, όπως το ΔΙΑΖΩΜΑ, που θα του προσδίδει «προστιθέμενη αξία» και θα λειτουργεί ως παράγοντας ποιότητας στη συνείδηση του δυνητικού τουρίστα. </a:t>
            </a:r>
            <a:endParaRPr b="0" lang="en-US" sz="24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0:09:30Z</dcterms:created>
  <dc:creator>betty</dc:creator>
  <dc:description/>
  <dc:language>en-US</dc:language>
  <cp:lastModifiedBy>Spkmm</cp:lastModifiedBy>
  <dcterms:modified xsi:type="dcterms:W3CDTF">2012-12-27T12:39:32Z</dcterms:modified>
  <cp:revision>23</cp:revision>
  <dc:subject/>
  <dc:title>ΠΡΌΤΑΣΗ ΓΙΑ ΜΙΑ ΠΟΛΙΤΙΣΤΙΚΗ ΔΙΑΔΡΟΜΗ</dc:title>
</cp:coreProperties>
</file>